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1.gif" ContentType="image/gif"/>
  <Override PartName="/ppt/media/image5.jpeg" ContentType="image/jpeg"/>
  <Override PartName="/ppt/media/image8.gif" ContentType="image/gif"/>
  <Override PartName="/ppt/media/image4.jpeg" ContentType="image/jpeg"/>
  <Override PartName="/ppt/media/image3.gif" ContentType="image/gif"/>
  <Override PartName="/ppt/media/image14.wmf" ContentType="image/x-wmf"/>
  <Override PartName="/ppt/media/image7.jpeg" ContentType="image/jpeg"/>
  <Override PartName="/ppt/media/image18.png" ContentType="image/png"/>
  <Override PartName="/ppt/media/image21.jpeg" ContentType="image/jpeg"/>
  <Override PartName="/ppt/media/image20.jpeg" ContentType="image/jpeg"/>
  <Override PartName="/ppt/media/image19.gif" ContentType="image/gif"/>
  <Override PartName="/ppt/media/image17.png" ContentType="image/png"/>
  <Override PartName="/ppt/media/image16.gif" ContentType="image/gif"/>
  <Override PartName="/ppt/media/image1.wmf" ContentType="image/x-wmf"/>
  <Override PartName="/ppt/media/image9.jpeg" ContentType="image/jpeg"/>
  <Override PartName="/ppt/media/image12.wmf" ContentType="image/x-wmf"/>
  <Override PartName="/ppt/media/chimes.wav" ContentType="audio/x-wav"/>
  <Override PartName="/ppt/media/drumroll.wav" ContentType="audio/x-wav"/>
  <Override PartName="/ppt/media/image15.png" ContentType="image/png"/>
  <Override PartName="/ppt/media/image13.wmf" ContentType="image/x-wmf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F170-B327-46B0-B66B-F3094ABA0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A66E-0BEF-4F94-BBD2-5C3E95CA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58BE-F594-428C-8CD6-3FE4F3168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4E01-A36F-40AD-AE9F-356787D4C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76BC-C15F-44E5-844B-4A76CA2C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DD19-0B17-442E-AAA4-51D9E8C7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CD30-044C-4608-AEE1-E1AC1B46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A204-8EA4-4BF3-8558-23AECF1D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EC57-BFA5-45E3-8939-F319FA7C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FC93-B6A3-4C89-8065-C6B42DCE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5BF7-C1E1-44D4-B4D5-8802F0FA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02CC-33C1-4CAE-A034-7CB82638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97E9-9BFC-48F5-9BC5-4D8BD9E0D5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gif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15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4122d"/>
                </a:solidFill>
                <a:latin typeface="Arial"/>
              </a:rPr>
              <a:t>Welcome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2924280"/>
            <a:ext cx="8604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幼圆"/>
              </a:rPr>
              <a:t>热烈欢迎家长的到来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203480" y="2155680"/>
            <a:ext cx="656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838080"/>
            <a:ext cx="7925040" cy="304920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存在问题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偏科严重，主要是英语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343400"/>
            <a:ext cx="9144000" cy="23115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原因：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zh-CN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学习态度（重视、勤奋等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         </a:t>
            </a:r>
            <a:r>
              <a:rPr b="1" lang="zh-CN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、学习方法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英语基础以及与老师的沟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04920" y="304920"/>
            <a:ext cx="8172360" cy="9169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本学期学生情况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413000"/>
            <a:ext cx="597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6360" y="1978200"/>
            <a:ext cx="84596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１、大部分学生基本进入初三状态，学习自觉性、主动性增强。（表现在预习、复习、作业、读书以及宿舍的自觉管理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53352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２、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黑体"/>
              </a:rPr>
              <a:t>有些学生学习目的性不明确，导致学习无动力，主动性欠缺，没有充分挖掘自己的潜力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124080"/>
            <a:ext cx="9144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66ff33"/>
                </a:solidFill>
                <a:latin typeface="Times New Roman"/>
              </a:rPr>
              <a:t>背书要反复强调．作业虽然能够按时上交，但完成作业的质量不高，有些甚至以抄答案来应付交任务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Times New Roman"/>
              </a:rPr>
              <a:t>　　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目前已开始进入复习，学生的自觉性和主动性尤为重要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4191120"/>
            <a:ext cx="914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、不按要求做练习、作业，没能合理安排时间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特别是中午和周六、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、基础训练不够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停留在听懂就行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不再深刻思考问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523880"/>
            <a:ext cx="7956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Times New Roman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３、有些学生的学习方法有待进一步的指导和提高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600200"/>
            <a:ext cx="9448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有部分同学课前不去预习，课后又不去复习和总结．听课显得有些被动，造成学习效率不够高．有些同学很为苦读，却缺乏巧读</a:t>
            </a:r>
            <a:r>
              <a:rPr b="1" lang="zh-CN" sz="4400" spc="-1" strike="noStrike">
                <a:solidFill>
                  <a:srgbClr val="66ff33"/>
                </a:solidFill>
                <a:latin typeface="Times New Roman"/>
              </a:rPr>
              <a:t>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60000" cy="7024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68000" cy="7101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12720" y="1413000"/>
            <a:ext cx="936936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、大部分同学心理素质问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　有待家长和老师的重点关注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314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765840" y="4365720"/>
            <a:ext cx="2702160" cy="27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258920" y="1052280"/>
            <a:ext cx="684216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学校教育必须要有家庭教育的配合，家庭教育既是学校教育的基础，又是学校教育的延续与升华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53280" y="1519200"/>
            <a:ext cx="1279440" cy="685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39640" y="549360"/>
            <a:ext cx="8280360" cy="57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在外留宿。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回家很迟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带同学回家住宿。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打电话时间长，次数多。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受伤回家。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超消费，上网吧、酒吧、游戏厅、舞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超出友谊的交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成绩突然下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穿奇装异服，爱好打扮，沉默寡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老是玩电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14920" y="333360"/>
            <a:ext cx="42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ahoma"/>
              </a:rPr>
              <a:t>需要注意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十问</a:t>
            </a: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3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3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3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3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3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4000" y="2492280"/>
            <a:ext cx="75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、尽量表扬孩子，孩子具有一定的自信心，才会肯去学习要使孩子每天都感觉到他在学习上取得了一定进步，哪怕是改正一个缺点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4581360"/>
            <a:ext cx="749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多关心孩子的学习内容和实际进步程度，家长要多询问孩子最近学习了什么掌握得如何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1628640"/>
            <a:ext cx="778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创造和睦、祥和、稳定的家庭气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4520" y="404640"/>
            <a:ext cx="42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平时应注意的问题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2280" y="3808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、经常给孩子制订几个容易达到的小目标，这样可以使孩子感觉到能够做到，树立孩子自信心，从而有利于孩子发挥出潜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403848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尽量不要在孩子面前议论老师，尤其不要在孩子面前贬低老师。</a:t>
            </a:r>
            <a:r>
              <a:rPr b="1" lang="zh-CN" sz="3200" spc="-1" strike="noStrike">
                <a:solidFill>
                  <a:srgbClr val="008000"/>
                </a:solidFill>
                <a:latin typeface="Tahoma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23623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订下家庭学习规矩，并且自始至终执行，以形成良好的学习习惯，作息习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0880" y="685800"/>
            <a:ext cx="8458200" cy="37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祝家长们事业一帆风顺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孩子们学业有成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!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衷心祝愿您的孩子在岔南中学健康幸福的成长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238880" y="4114800"/>
            <a:ext cx="1671840" cy="2362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09480" y="4419720"/>
            <a:ext cx="838440" cy="2079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700360" y="3716280"/>
            <a:ext cx="297180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9890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1d0deb"/>
                </a:solidFill>
                <a:latin typeface="Times New Roman"/>
              </a:rPr>
              <a:t>首先感谢您在百忙之中抽空来参加家长会</a:t>
            </a:r>
            <a:r>
              <a:rPr b="1" lang="zh-CN" sz="4000" spc="-1" strike="noStrike">
                <a:solidFill>
                  <a:srgbClr val="1d0deb"/>
                </a:solidFill>
                <a:latin typeface="Times New Roman"/>
              </a:rPr>
              <a:t>.</a:t>
            </a:r>
            <a:r>
              <a:rPr b="1" lang="zh-CN" sz="4000" spc="-1" strike="noStrike">
                <a:solidFill>
                  <a:srgbClr val="1d0deb"/>
                </a:solidFill>
                <a:latin typeface="Times New Roman"/>
              </a:rPr>
              <a:t>关心、帮助、督促贵子女是我们共同的心愿！使您的孩子得到全面发展、提高是我们共同的目标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404640"/>
            <a:ext cx="5976720" cy="9169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41a34"/>
                </a:solidFill>
                <a:latin typeface="Times New Roman"/>
              </a:rPr>
              <a:t>尊敬的各位家长</a:t>
            </a:r>
            <a:r>
              <a:rPr b="1" lang="zh-CN" sz="5400" spc="-1" strike="noStrike">
                <a:solidFill>
                  <a:srgbClr val="009999"/>
                </a:solidFill>
                <a:latin typeface="Times New Roman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400800" y="0"/>
            <a:ext cx="2514600" cy="2224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3124080" y="5029200"/>
            <a:ext cx="4876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我们需要共同努力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077320" y="5791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8077320" y="5943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55640" y="4365720"/>
            <a:ext cx="5111640" cy="1439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853452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324000" y="765000"/>
            <a:ext cx="838836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请各位家长和任课老师自由交流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6553080" y="3716280"/>
            <a:ext cx="3200400" cy="31417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3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2971800" y="1295280"/>
            <a:ext cx="3809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取得的成绩</a:t>
            </a:r>
            <a:endParaRPr b="1" lang="en-US" sz="60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2666880"/>
            <a:ext cx="350496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2286000"/>
            <a:ext cx="41148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月考期中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征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运动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常规评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660680" y="1241280"/>
            <a:ext cx="557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03280" y="119700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Arial"/>
                <a:ea typeface="华文彩云"/>
              </a:rPr>
              <a:t>谢谢</a:t>
            </a:r>
            <a:r>
              <a:rPr b="1" lang="zh-CN" sz="8000" spc="-1" strike="noStrike">
                <a:solidFill>
                  <a:srgbClr val="ffff00"/>
                </a:solidFill>
                <a:latin typeface="Arial"/>
                <a:ea typeface="华文彩云"/>
              </a:rPr>
              <a:t>各位</a:t>
            </a:r>
            <a:r>
              <a:rPr b="1" lang="zh-CN" sz="8000" spc="-1" strike="noStrike">
                <a:solidFill>
                  <a:srgbClr val="ffff00"/>
                </a:solidFill>
                <a:latin typeface="Arial"/>
                <a:ea typeface="黑体"/>
              </a:rPr>
              <a:t>家长   合作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46016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4122d"/>
                </a:solidFill>
                <a:latin typeface="Arial"/>
                <a:ea typeface="幼圆"/>
              </a:rPr>
              <a:t>在家庭教育中</a:t>
            </a:r>
            <a:r>
              <a:rPr b="1" i="1" lang="zh-CN" sz="4000" spc="-1" strike="noStrike">
                <a:solidFill>
                  <a:srgbClr val="f4122d"/>
                </a:solidFill>
                <a:latin typeface="Arial"/>
                <a:ea typeface="幼圆"/>
              </a:rPr>
              <a:t>,</a:t>
            </a:r>
            <a:r>
              <a:rPr b="1" i="1" lang="zh-CN" sz="4000" spc="-1" strike="noStrike">
                <a:solidFill>
                  <a:srgbClr val="f4122d"/>
                </a:solidFill>
                <a:latin typeface="Arial"/>
                <a:ea typeface="幼圆"/>
              </a:rPr>
              <a:t>请各位家长在</a:t>
            </a:r>
            <a:br>
              <a:rPr sz="4000"/>
            </a:br>
            <a:r>
              <a:rPr b="1" i="1" lang="zh-CN" sz="4000" spc="-1" strike="noStrike">
                <a:solidFill>
                  <a:srgbClr val="f4122d"/>
                </a:solidFill>
                <a:latin typeface="Arial"/>
                <a:ea typeface="幼圆"/>
              </a:rPr>
              <a:t>以下几方面与我们形成共识</a:t>
            </a:r>
            <a:r>
              <a:rPr b="1" i="1" lang="zh-CN" sz="4000" spc="-1" strike="noStrike">
                <a:solidFill>
                  <a:srgbClr val="f4122d"/>
                </a:solidFill>
                <a:latin typeface="Arial"/>
                <a:ea typeface="幼圆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16000" y="198900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0deb"/>
                </a:solidFill>
                <a:latin typeface="Times New Roman"/>
              </a:rPr>
              <a:t>⑴</a:t>
            </a:r>
            <a:r>
              <a:rPr b="1" lang="zh-CN" sz="4400" spc="-1" strike="noStrike">
                <a:solidFill>
                  <a:srgbClr val="1d0deb"/>
                </a:solidFill>
                <a:latin typeface="Times New Roman"/>
              </a:rPr>
              <a:t>要掌握孩子的特点，有的放矢地进行教育。</a:t>
            </a:r>
            <a:r>
              <a:rPr b="1" lang="zh-CN" sz="2400" spc="-1" strike="noStrike">
                <a:solidFill>
                  <a:srgbClr val="1d0d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71640" y="3500280"/>
            <a:ext cx="71276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d0deb"/>
                </a:solidFill>
                <a:latin typeface="Times New Roman"/>
              </a:rPr>
              <a:t>⑵</a:t>
            </a:r>
            <a:r>
              <a:rPr b="1" lang="zh-CN" sz="4800" spc="-1" strike="noStrike">
                <a:solidFill>
                  <a:srgbClr val="1d0deb"/>
                </a:solidFill>
                <a:latin typeface="Times New Roman"/>
              </a:rPr>
              <a:t>要全面而准确地估计自己孩子的能力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5210280"/>
            <a:ext cx="7632720" cy="16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d0deb"/>
                </a:solidFill>
                <a:latin typeface="Times New Roman"/>
              </a:rPr>
              <a:t>⑶</a:t>
            </a:r>
            <a:r>
              <a:rPr b="1" lang="zh-CN" sz="4800" spc="-1" strike="noStrike">
                <a:solidFill>
                  <a:srgbClr val="1d0deb"/>
                </a:solidFill>
                <a:latin typeface="Times New Roman"/>
              </a:rPr>
              <a:t>要正确看待孩子的分数。</a:t>
            </a:r>
            <a:r>
              <a:rPr b="1" lang="zh-CN" sz="3600" spc="-1" strike="noStrike">
                <a:solidFill>
                  <a:srgbClr val="0c0b0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26920" y="69228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0deb"/>
                </a:solidFill>
                <a:latin typeface="Times New Roman"/>
              </a:rPr>
              <a:t>⑷</a:t>
            </a:r>
            <a:r>
              <a:rPr b="1" lang="zh-CN" sz="4400" spc="-1" strike="noStrike">
                <a:solidFill>
                  <a:srgbClr val="1d0deb"/>
                </a:solidFill>
                <a:latin typeface="Times New Roman"/>
              </a:rPr>
              <a:t>要多给孩子一点信心，做孩     子成长的强有力的后盾。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2590920"/>
            <a:ext cx="670536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0deb"/>
                </a:solidFill>
                <a:latin typeface="Times New Roman"/>
              </a:rPr>
              <a:t>⑸</a:t>
            </a:r>
            <a:r>
              <a:rPr b="1" lang="zh-CN" sz="4400" spc="-1" strike="noStrike">
                <a:solidFill>
                  <a:srgbClr val="1d0deb"/>
                </a:solidFill>
                <a:latin typeface="Times New Roman"/>
              </a:rPr>
              <a:t>要教育学生遵守纪律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3538440"/>
            <a:ext cx="6912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0deb"/>
                </a:solidFill>
                <a:latin typeface="Times New Roman"/>
              </a:rPr>
              <a:t>⑹</a:t>
            </a:r>
            <a:r>
              <a:rPr b="1" lang="zh-CN" sz="4400" spc="-1" strike="noStrike">
                <a:solidFill>
                  <a:srgbClr val="1d0deb"/>
                </a:solidFill>
                <a:latin typeface="Times New Roman"/>
              </a:rPr>
              <a:t>要创设一种良好的家庭育    人环境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5029200"/>
            <a:ext cx="7473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⑺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要与老师坦诚相待，保持一致</a:t>
            </a:r>
            <a:r>
              <a:rPr b="1" lang="zh-CN" sz="3600" spc="-1" strike="noStrike">
                <a:solidFill>
                  <a:srgbClr val="0c0b0a"/>
                </a:solidFill>
                <a:latin typeface="Times New Roman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19320" y="68580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1d0deb"/>
                </a:solidFill>
                <a:latin typeface="Times New Roman"/>
              </a:rPr>
              <a:t>4. </a:t>
            </a:r>
            <a:r>
              <a:rPr b="1" i="1" lang="zh-CN" sz="4400" spc="-1" strike="noStrike">
                <a:solidFill>
                  <a:srgbClr val="1d0deb"/>
                </a:solidFill>
                <a:latin typeface="Times New Roman"/>
              </a:rPr>
              <a:t>具体来说</a:t>
            </a:r>
            <a:r>
              <a:rPr b="1" i="1" lang="zh-CN" sz="4400" spc="-1" strike="noStrike">
                <a:solidFill>
                  <a:srgbClr val="1d0deb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28195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⑵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掌握学生的时间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安排好学生的生活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.(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上学、放学的时间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学生早、中餐的问题等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600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⑴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督促好学生的常规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.(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校服、学生证、鞋套、不留长发、长指甲、染发等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411480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⑶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学习方面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关心学生每一天的学习情况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督促学生晚上在家独立完成各科家庭作业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并进行适当的复习和预习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对于学有余力的学生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安排适当的课外习题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10666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⑷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多和学生交流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了解他们的想法和需要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2590920"/>
            <a:ext cx="7924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⑸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多和学校、老师联系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了解学生在校的表现及学习情况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.(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给班主任打电话、来校了解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51498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⑹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配合好学校、老师的工作</a:t>
            </a:r>
            <a:r>
              <a:rPr b="1" lang="zh-CN" sz="3200" spc="-1" strike="noStrike">
                <a:solidFill>
                  <a:srgbClr val="0c0b0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4122d"/>
                </a:solidFill>
                <a:latin typeface="Arial"/>
              </a:rPr>
              <a:t>需要注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1d0d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0deb"/>
                </a:solidFill>
                <a:latin typeface="Arial"/>
              </a:rPr>
              <a:t>十问：</a:t>
            </a:r>
            <a:r>
              <a:rPr b="1" lang="zh-CN" sz="3600" spc="-1" strike="noStrike">
                <a:solidFill>
                  <a:srgbClr val="1d0deb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1d0deb"/>
                </a:solidFill>
                <a:latin typeface="Arial"/>
              </a:rPr>
              <a:t>、在外留宿。     </a:t>
            </a:r>
            <a:r>
              <a:rPr b="1" lang="zh-CN" sz="3600" spc="-1" strike="noStrike">
                <a:solidFill>
                  <a:srgbClr val="1d0deb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1d0deb"/>
                </a:solidFill>
                <a:latin typeface="Arial"/>
              </a:rPr>
              <a:t>、回家很迟。</a:t>
            </a:r>
            <a:r>
              <a:rPr b="1" lang="zh-CN" sz="3600" spc="-1" strike="noStrike">
                <a:solidFill>
                  <a:srgbClr val="1d0deb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1d0deb"/>
                </a:solidFill>
                <a:latin typeface="Arial"/>
              </a:rPr>
              <a:t>、带同学住宿。</a:t>
            </a:r>
            <a:r>
              <a:rPr b="1" lang="zh-CN" sz="3600" spc="-1" strike="noStrike">
                <a:solidFill>
                  <a:srgbClr val="1d0deb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1d0deb"/>
                </a:solidFill>
                <a:latin typeface="Arial"/>
              </a:rPr>
              <a:t>、打电话时间长，次数多。</a:t>
            </a:r>
            <a:r>
              <a:rPr b="1" lang="zh-CN" sz="3600" spc="-1" strike="noStrike">
                <a:solidFill>
                  <a:srgbClr val="1d0deb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1d0deb"/>
                </a:solidFill>
                <a:latin typeface="Arial"/>
              </a:rPr>
              <a:t>、受伤回家。</a:t>
            </a:r>
            <a:r>
              <a:rPr b="1" lang="zh-CN" sz="3600" spc="-1" strike="noStrike">
                <a:solidFill>
                  <a:srgbClr val="1d0deb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1d0deb"/>
                </a:solidFill>
                <a:latin typeface="Arial"/>
              </a:rPr>
              <a:t>、超消费要问。</a:t>
            </a:r>
            <a:r>
              <a:rPr b="1" lang="zh-CN" sz="3600" spc="-1" strike="noStrike">
                <a:solidFill>
                  <a:srgbClr val="1d0deb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1d0deb"/>
                </a:solidFill>
                <a:latin typeface="Arial"/>
              </a:rPr>
              <a:t>、超出友谊。</a:t>
            </a:r>
            <a:r>
              <a:rPr b="1" lang="zh-CN" sz="3600" spc="-1" strike="noStrike">
                <a:solidFill>
                  <a:srgbClr val="1d0deb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1d0deb"/>
                </a:solidFill>
                <a:latin typeface="Arial"/>
              </a:rPr>
              <a:t>、成绩突然下降。</a:t>
            </a:r>
            <a:r>
              <a:rPr b="1" lang="zh-CN" sz="3600" spc="-1" strike="noStrike">
                <a:solidFill>
                  <a:srgbClr val="1d0deb"/>
                </a:solidFill>
                <a:latin typeface="Arial"/>
              </a:rPr>
              <a:t>9</a:t>
            </a:r>
            <a:r>
              <a:rPr b="1" lang="zh-CN" sz="3600" spc="-1" strike="noStrike">
                <a:solidFill>
                  <a:srgbClr val="1d0deb"/>
                </a:solidFill>
                <a:latin typeface="Arial"/>
              </a:rPr>
              <a:t>、穿奇装异服，爱好打扮，沉默寡言。</a:t>
            </a:r>
            <a:r>
              <a:rPr b="1" lang="zh-CN" sz="3600" spc="-1" strike="noStrike">
                <a:solidFill>
                  <a:srgbClr val="1d0deb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1d0deb"/>
                </a:solidFill>
                <a:latin typeface="Arial"/>
              </a:rPr>
              <a:t>、老是玩电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4122d"/>
                </a:solidFill>
                <a:latin typeface="Arial"/>
              </a:rPr>
              <a:t>再次感谢各位家长的到来</a:t>
            </a:r>
            <a:r>
              <a:rPr b="1" i="1" lang="zh-CN" sz="4800" spc="-1" strike="noStrike">
                <a:solidFill>
                  <a:srgbClr val="f4122d"/>
                </a:solidFill>
                <a:latin typeface="Arial"/>
              </a:rPr>
              <a:t>!</a:t>
            </a:r>
            <a:br>
              <a:rPr sz="2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733920" y="43434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1d0deb"/>
                </a:solidFill>
                <a:latin typeface="Arial"/>
                <a:ea typeface="幼圆"/>
              </a:rPr>
              <a:t>谢谢</a:t>
            </a:r>
            <a:r>
              <a:rPr b="1" i="1" lang="zh-CN" sz="8000" spc="-1" strike="noStrike">
                <a:solidFill>
                  <a:srgbClr val="1d0deb"/>
                </a:solidFill>
                <a:latin typeface="Arial"/>
                <a:ea typeface="幼圆"/>
              </a:rPr>
              <a:t>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95280" y="53352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一些学生考试成绩退步的原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905120"/>
            <a:ext cx="7273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zh-CN" sz="3800" spc="-1" strike="noStrike">
                <a:solidFill>
                  <a:srgbClr val="000099"/>
                </a:solidFill>
                <a:latin typeface="Tahoma"/>
              </a:rPr>
              <a:t>、对考试不重视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2924280"/>
            <a:ext cx="748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3733920"/>
            <a:ext cx="7632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99"/>
                </a:solidFill>
                <a:latin typeface="Tahoma"/>
              </a:rPr>
              <a:t>3</a:t>
            </a:r>
            <a:r>
              <a:rPr b="1" lang="zh-CN" sz="3800" spc="-1" strike="noStrike">
                <a:solidFill>
                  <a:srgbClr val="000099"/>
                </a:solidFill>
                <a:latin typeface="Tahoma"/>
              </a:rPr>
              <a:t>、学习方法不合适。（习惯差）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2819520"/>
            <a:ext cx="82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1" lang="zh-CN" sz="3800" spc="-1" strike="noStrike">
                <a:solidFill>
                  <a:srgbClr val="000099"/>
                </a:solidFill>
                <a:latin typeface="Tahoma"/>
              </a:rPr>
              <a:t>、学习态度差。（学习不刻苦）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576760"/>
            <a:ext cx="1143000" cy="1071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04920" y="609480"/>
            <a:ext cx="1066680" cy="6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7:39:43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0:59:04Z</dcterms:modified>
  <cp:revision>41</cp:revision>
  <dc:subject>主题班会课件(分28大类): http://shop62905894.taobao.com</dc:subject>
  <dc:title>主题班会课件(分28大类): http://shop62905894.taobao.com</dc:title>
</cp:coreProperties>
</file>